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76B7-2F1D-474F-B2D8-685F96CF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note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E3C-3A62-44A1-B5E8-9BE16098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323-C773-47FC-B06D-9A211FEF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A21-3713-4292-BA15-B7D988FD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FE3-D3B1-48C7-B119-3D9651CB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897-EC0B-4C56-880C-2EEC3F9D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F5B-28C5-4966-8B8E-0ED9EC91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700-4EA1-497A-993E-41916B4F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2FC-E264-4C38-BF11-B4FE7CF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774-EA2D-416F-87D8-0491B67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C9B-6EEA-44DF-B475-7829B2F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10C-9543-4A7E-A0E9-BAA9160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919-33ED-4790-8CB0-CAAF7E6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791B-E557-491D-ABC1-46A891EF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2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Nutrition and Fitn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vitam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20574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nutrient is made of fatty acids, and provides energy to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f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752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burn calories that are stored as fat, what type of exercise do you need to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erob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60020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type of resistance training involves resistance through an entire range of mo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sokinet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25909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activity combines muscle contraction with repeate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soton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es F.I.T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tr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228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286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2860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4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4479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4479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4479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4382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505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6483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57150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cc"/>
                </a:solidFill>
                <a:uFillTx/>
                <a:latin typeface="Comic Sans MS"/>
                <a:hlinkClick r:id="rId11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2438280"/>
            <a:ext cx="16761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2438280"/>
            <a:ext cx="16765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505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3505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64832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6483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5715000"/>
            <a:ext cx="16761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57150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13372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22860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activity uses muscle tension to improve muscular strength with little or no movement of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sometric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7524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eating disorder involves self-starvation combined with extensive exerc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orex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22096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eating disorder involves binge eating followed by vomiting or laxative u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2362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Buli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2819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es healthy dieting do to your metabol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2819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creases your metabo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5146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calories relate to gaining or losing we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0028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most vital nutr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xtra calories would be stored as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should you do to control your weight in a healthy 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ower the set-point and raise you metabol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21337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wer metabolism makes it harder to gain weight and easier to lose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24382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Lower metabolism makes it easier to gain weight and harder to ga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don’t use calories they will be stored as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2666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ercising does not raise your metabol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819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Exercising does raise your metabol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25909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ighest level of the old food pyramid contains the foods you should eat most oft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38080" y="243828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The highest level of the old food pyramid contains the food you should eat sparing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gular aerobic exercise can raise you set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38080" y="25146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bility to move a body part through a full range of mo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mount of force a muscle can exe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uscular Str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20574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bility to carry out daily tasks easily and have enough energy to respond to unexpected dema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Physical Fi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16765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ability of the muscles to do difficult physical tasks over a period of time without causing fatig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main source of energy for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uscular End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67652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is the ratio of body fat to lean body tissue, including muscle, bone, water, and connective tissue such as ligament, cartilage and tend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Body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0280" y="30481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ese are made of amino acids which build body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3048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534520" y="6324480"/>
            <a:ext cx="38088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36232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-This nutrient does not provide energy, but is essential for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632448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06:15:24Z</dcterms:created>
  <dc:creator>anyone</dc:creator>
  <dc:description/>
  <dc:language>en-US</dc:language>
  <cp:lastModifiedBy>Clarkson</cp:lastModifiedBy>
  <dcterms:modified xsi:type="dcterms:W3CDTF">2007-12-31T06:36:43Z</dcterms:modified>
  <cp:revision>27</cp:revision>
  <dc:subject/>
  <dc:title>Welcome to Jeopardy!</dc:title>
</cp:coreProperties>
</file>